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-144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60720" y="-144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-1440" y="881712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3960720" y="8817120"/>
            <a:ext cx="303048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BA71-0277-405D-B3EE-D0756A152A8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Img"/>
          </p:nvPr>
        </p:nvSpPr>
        <p:spPr>
          <a:xfrm>
            <a:off x="1182600" y="701280"/>
            <a:ext cx="4624560" cy="34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604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60720" y="-144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0720" y="881712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i="1" lang="en-US" sz="10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1440" y="881712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1440" y="-1440"/>
            <a:ext cx="3030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6040" cy="41752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960720" y="-1440"/>
            <a:ext cx="3030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072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i="1" lang="en-US" sz="1000" spc="-1" strike="noStrike">
                <a:solidFill>
                  <a:srgbClr val="00008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8815320"/>
            <a:ext cx="30304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-1440"/>
            <a:ext cx="30304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2600" y="701640"/>
            <a:ext cx="4624560" cy="34686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1680" y="4408200"/>
            <a:ext cx="5126040" cy="41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CD4-69C1-4D98-992C-4CCC32C9A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62E3-6E2E-4A33-AC08-CC4C9D6B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473-F4C7-4FB5-AFB4-AAAB3EBA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C7FB-154E-4AD7-AE64-B1806A02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85D-6B42-4A50-A196-CF566FB4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136C-9187-4D5D-AB90-50A44F6A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A038-C529-4CEB-A72A-039879F1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617-C1BE-4E52-9078-DB8EFAE4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8FF-6E27-46BE-951B-E84F1289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4FE5-85F6-4587-B6D1-7A4875E7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F7F-4782-4E0A-97A5-1CE70883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736-6F0A-48D2-A3F3-491E77A0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36435-09E8-4E3B-BCA2-E279B7EE2F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8877240" cy="17784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88200"/>
            <a:ext cx="8877240" cy="457200"/>
          </a:xfrm>
          <a:prstGeom prst="rect">
            <a:avLst/>
          </a:prstGeom>
          <a:gradFill rotWithShape="0">
            <a:gsLst>
              <a:gs pos="0">
                <a:srgbClr val="00859a"/>
              </a:gs>
              <a:gs pos="100000">
                <a:srgbClr val="0027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8720" indent="-288720"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8737560" y="0"/>
            <a:ext cx="393840" cy="6845400"/>
            <a:chOff x="8737560" y="0"/>
            <a:chExt cx="393840" cy="6845400"/>
          </a:xfrm>
        </p:grpSpPr>
        <p:sp>
          <p:nvSpPr>
            <p:cNvPr id="8" name=""/>
            <p:cNvSpPr/>
            <p:nvPr/>
          </p:nvSpPr>
          <p:spPr>
            <a:xfrm>
              <a:off x="873756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b1a14d"/>
                </a:gs>
                <a:gs pos="50000">
                  <a:srgbClr val="ffe870"/>
                </a:gs>
                <a:gs pos="100000">
                  <a:srgbClr val="b1a1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64720" y="0"/>
              <a:ext cx="166680" cy="6845400"/>
            </a:xfrm>
            <a:prstGeom prst="rect">
              <a:avLst/>
            </a:prstGeom>
            <a:gradFill rotWithShape="0">
              <a:gsLst>
                <a:gs pos="0">
                  <a:srgbClr val="009b8c"/>
                </a:gs>
                <a:gs pos="50000">
                  <a:srgbClr val="00dfca"/>
                </a:gs>
                <a:gs pos="100000">
                  <a:srgbClr val="009b8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125280" y="0"/>
            <a:ext cx="217800" cy="278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2528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b1a14d"/>
              </a:gs>
              <a:gs pos="50000">
                <a:srgbClr val="ffe870"/>
              </a:gs>
              <a:gs pos="100000">
                <a:srgbClr val="b1a14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52360" y="0"/>
            <a:ext cx="90720" cy="2781360"/>
          </a:xfrm>
          <a:prstGeom prst="rect">
            <a:avLst/>
          </a:prstGeom>
          <a:gradFill rotWithShape="0">
            <a:gsLst>
              <a:gs pos="0">
                <a:srgbClr val="009b8c"/>
              </a:gs>
              <a:gs pos="50000">
                <a:srgbClr val="00dfca"/>
              </a:gs>
              <a:gs pos="100000">
                <a:srgbClr val="009b8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" y="281952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870"/>
                </a:solidFill>
                <a:latin typeface="Times New Roman"/>
              </a:rPr>
              <a:t>International Auditing and Assurance Standards Boa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3581280"/>
            <a:ext cx="7543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onvergence with International Standards on Auditing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ohn Kellas, IAASB Chairm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657600" y="1295280"/>
            <a:ext cx="1447920" cy="134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914400" y="5334120"/>
            <a:ext cx="7543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eCER Regional Con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ne 14, 20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4400" spc="-1" strike="noStrike">
                <a:solidFill>
                  <a:srgbClr val="ffe870"/>
                </a:solidFill>
                <a:latin typeface="Times New Roman"/>
              </a:rPr>
              <a:t>Conclusion 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115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ption of international standards should be supported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rnational Quality Control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AC Code of Ethics for Professional Account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plementation guidance and adv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 and educ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itoring and enfor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080" y="631800"/>
            <a:ext cx="24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4400" spc="-1" strike="noStrike">
                <a:solidFill>
                  <a:srgbClr val="ffe870"/>
                </a:solidFill>
                <a:latin typeface="Times New Roman"/>
              </a:rPr>
              <a:t>Conclusion (Cont’d)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8720" indent="-288720">
              <a:lnSpc>
                <a:spcPct val="115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+ countries use, base their standards on, I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720" indent="-288720">
              <a:lnSpc>
                <a:spcPct val="115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nificant announcements 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ada, China, India and the U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720" indent="-288720">
              <a:lnSpc>
                <a:spcPct val="115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to adopt ISAs in the European Un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8720" indent="-288720">
              <a:lnSpc>
                <a:spcPct val="115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ion of IFAC Member Bodies in Latin America is recogniz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9080" y="631800"/>
            <a:ext cx="24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32767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International Federation of Accoun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870"/>
                </a:solidFill>
                <a:latin typeface="Times New Roman"/>
              </a:rPr>
              <a:t>www.ifac.or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44956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657600" y="838080"/>
            <a:ext cx="1447920" cy="1349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457200" y="50292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4400" spc="-1" strike="noStrike">
                <a:solidFill>
                  <a:srgbClr val="ffe870"/>
                </a:solidFill>
                <a:latin typeface="Times New Roman"/>
              </a:rPr>
              <a:t>Agenda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115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y convergence ma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hallenges of converg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eting the challenges of converg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89080" y="631800"/>
            <a:ext cx="24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4400" spc="-1" strike="noStrike">
                <a:solidFill>
                  <a:srgbClr val="ffe870"/>
                </a:solidFill>
                <a:latin typeface="Times New Roman"/>
              </a:rPr>
              <a:t>Acceptance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115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 acceptance of international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ng”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2 Key Standards for Sound Financial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080" y="631800"/>
            <a:ext cx="24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4400" spc="-1" strike="noStrike">
                <a:solidFill>
                  <a:srgbClr val="ffe870"/>
                </a:solidFill>
                <a:latin typeface="Times New Roman"/>
              </a:rPr>
              <a:t>Benefits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115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ational inves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ble to listed and unlisted ent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ational regula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diting fi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ducators and learn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080" y="631800"/>
            <a:ext cx="24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4400" spc="-1" strike="noStrike">
                <a:solidFill>
                  <a:srgbClr val="ffe870"/>
                </a:solidFill>
                <a:latin typeface="Times New Roman"/>
              </a:rPr>
              <a:t>Convergence vs. Adoption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115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aning of “convergence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ption is preferred approa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the advantages of converg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countries may contribute to standard-setting proc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stest way to eliminate / minimize dif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9080" y="631800"/>
            <a:ext cx="24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4400" spc="-1" strike="noStrike">
                <a:solidFill>
                  <a:srgbClr val="ffe870"/>
                </a:solidFill>
                <a:latin typeface="Times New Roman"/>
              </a:rPr>
              <a:t>Challenges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115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ing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tablished national standard setting process vs. new econom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uthority of standard set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ndard setting no longer a function of most IFAC member bod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ltural dif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080" y="631800"/>
            <a:ext cx="24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4400" spc="-1" strike="noStrike">
                <a:solidFill>
                  <a:srgbClr val="ffe870"/>
                </a:solidFill>
                <a:latin typeface="Times New Roman"/>
              </a:rPr>
              <a:t>Challenges (Cont.)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115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ilosophical differ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ules vs. principles / 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cope of the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plication of standards to all types and sizes of entity by all sizes of audit fi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799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quency and complexity of 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080" y="631800"/>
            <a:ext cx="24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4400" spc="-1" strike="noStrike">
                <a:solidFill>
                  <a:srgbClr val="ffe870"/>
                </a:solidFill>
                <a:latin typeface="Times New Roman"/>
              </a:rPr>
              <a:t>Meeting the Challenges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91960" indent="-291960">
              <a:lnSpc>
                <a:spcPct val="115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rking in partnership with national standard se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ional standard setters to address matters of domestic conc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idance on modifications to ISAs issued in July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osition of the IAAS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logue with ‘stakeholders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AASB Consultative Advisory Group and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960" indent="-291960">
              <a:lnSpc>
                <a:spcPct val="115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ment of high-quality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9080" y="631800"/>
            <a:ext cx="24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4400" spc="-1" strike="noStrike">
                <a:solidFill>
                  <a:srgbClr val="ffe870"/>
                </a:solidFill>
                <a:latin typeface="Times New Roman"/>
              </a:rPr>
              <a:t>High-Quality Standards</a:t>
            </a:r>
            <a:endParaRPr b="0" lang="en-US" sz="4400" spc="-1" strike="noStrike">
              <a:solidFill>
                <a:srgbClr val="ffe87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8720" indent="-288720">
              <a:lnSpc>
                <a:spcPct val="115000"/>
              </a:lnSpc>
              <a:spcBef>
                <a:spcPts val="700"/>
              </a:spcBef>
              <a:buClr>
                <a:srgbClr val="ffe87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-quality standard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capable of different interpret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le of trans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force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ed to achieve a high-quality aud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urisdictionally neutral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rike a balance between principles and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ject to due proc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1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bject to public oversigh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9080" y="631800"/>
            <a:ext cx="241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20T22:18:34Z</dcterms:created>
  <dc:creator>Steven H. Goldthwaite</dc:creator>
  <dc:description/>
  <cp:keywords/>
  <dc:language>en-US</dc:language>
  <cp:lastModifiedBy> </cp:lastModifiedBy>
  <cp:lastPrinted>1997-03-19T15:56:24Z</cp:lastPrinted>
  <dcterms:modified xsi:type="dcterms:W3CDTF">2007-05-16T20:52:27Z</dcterms:modified>
  <cp:revision>405</cp:revision>
  <dc:subject/>
  <dc:title>INTERNATIONAL FEDERATION OF ACCOUNTANTS</dc:title>
</cp:coreProperties>
</file>